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53DFD-5FBE-4B0F-820F-E396ACBF0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2A7725-0A5F-4C51-B490-44C05FA11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Ulusal hukuk sistemine bağlı olarak soruşturma yetkisi, polise veya savcılara aittir ve polis ve savcılar arasındaki işbirliği, belirli bir çerçeve ile belirlen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şikayetin yapıldığı kurum tarafından yapılacak başlangıçtaki faaliyetlere ilave olarak kanıtların bütünlüğünün ve korunmasının sağlanması, risklerin giderilmesi ve suç oluşturan faaliyetlerin durdurulması için dosyanın, o tarihe kadar alınmış olan önlemlerle birlikte savcı tarafından sunu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mniyet güçlerinin teknik ve personel kapasitesinin, genellikle savcılıktan daha geniş olmasına karşın savcılar, kapsamlı hukuki bilgiye ve belirli yasal yetkiye sahiptir. Bu önlemin amacı, belirli soruşturma önlemlerinin savcının onayı olmadan alınamayacak olmasıdır. Diğer yandan belirli soruşturma faaliyetlerine savcı tarafından karar verilebilir. Bu nedenle savcının sürece kat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 savcılar arasında işbirliği, bütün soruşturma sırasında gereklidir ve büyük ölçüde şunlarla ilgi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işlenmiş olan suçların belirlen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ruşturma önlemlerinin belirlenmesi, 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nuçların değerlendirilmesi ve aramalar ve zanlıların tutuklanması ve sorgulanması hakkında karar verilmes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D339B-8FF2-413E-9F86-B27A4C12D0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önceliklerinden biri de zanlı veya zanlıların belirlenmesidir. Zanlılar, kimlikleri konusunda bazı doğrudan izler bırakabilirler veya klasik ya da sanal suç faaliyetlerinde bulunurken aracılar kullanabilirler. Zanlı hakkında internetteki yararlı bilgiler, onun suç oluşturan faaliyetleri dışındaki nedenlerle de bulun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ların bulundukları yerler, suç oluşturan faaliyetleri yürüttükleri yerin ve dosya için önemli kanıtların bulunduğu yerin belirlenmesi açısından önem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nın kimliğinin belirlenmesinden sonra aşağıda belirtilen olaya ilişkin yönlerin açıklığa kavuşturulması amacıyla soruşturma faaliyetlerinin yürütülmesi büyük önem taş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işlenmesi için kullanılan bilgisayarın bulunduğu y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zanlının bulunduğu yer veya kullanılan diğer adresler</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kullanılan </a:t>
            </a:r>
            <a:r>
              <a:rPr b="0" lang="en-GB" sz="1200" spc="-1" strike="noStrike">
                <a:solidFill>
                  <a:srgbClr val="000000"/>
                </a:solidFill>
                <a:latin typeface="Calibri"/>
              </a:rPr>
              <a:t>internet </a:t>
            </a:r>
            <a:r>
              <a:rPr b="0" lang="tr-TR" sz="1200" spc="-1" strike="noStrike">
                <a:solidFill>
                  <a:srgbClr val="000000"/>
                </a:solidFill>
                <a:latin typeface="Calibri"/>
              </a:rPr>
              <a:t>bağlantısı</a:t>
            </a:r>
            <a:r>
              <a:rPr b="0" lang="en-GB" sz="1200" spc="-1" strike="noStrike">
                <a:solidFill>
                  <a:srgbClr val="000000"/>
                </a:solidFill>
                <a:latin typeface="Calibri"/>
              </a:rPr>
              <a:t> (</a:t>
            </a:r>
            <a:r>
              <a:rPr b="0" lang="tr-TR" sz="1200" spc="-1" strike="noStrike">
                <a:solidFill>
                  <a:srgbClr val="000000"/>
                </a:solidFill>
                <a:latin typeface="Calibri"/>
              </a:rPr>
              <a:t>kablolu</a:t>
            </a:r>
            <a:r>
              <a:rPr b="0" lang="en-GB" sz="1200" spc="-1" strike="noStrike">
                <a:solidFill>
                  <a:srgbClr val="000000"/>
                </a:solidFill>
                <a:latin typeface="Calibri"/>
              </a:rPr>
              <a:t>, </a:t>
            </a:r>
            <a:r>
              <a:rPr b="0" lang="tr-TR" sz="1200" spc="-1" strike="noStrike">
                <a:solidFill>
                  <a:srgbClr val="000000"/>
                </a:solidFill>
                <a:latin typeface="Calibri"/>
              </a:rPr>
              <a:t>kablosuz</a:t>
            </a:r>
            <a:r>
              <a:rPr b="0" lang="en-GB" sz="1200" spc="-1" strike="noStrike">
                <a:solidFill>
                  <a:srgbClr val="000000"/>
                </a:solidFill>
                <a:latin typeface="Calibri"/>
              </a:rPr>
              <a:t>, ISP, </a:t>
            </a:r>
            <a:r>
              <a:rPr b="0" lang="tr-TR" sz="1200" spc="-1" strike="noStrike">
                <a:solidFill>
                  <a:srgbClr val="000000"/>
                </a:solidFill>
                <a:latin typeface="Calibri"/>
              </a:rPr>
              <a:t>vs.</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oluşturan faaliyetler hakkında bilgi ve katıl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diğer zanlılarla işbirliği ve onların katılım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anka hesaplar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li hususların soruşturulması, zanlıların kimlikleri ve bulundukları yerlerin belirlenmesine ve ayrıca zararın karşılanması amacıyla işlenmiş olan suçların mali ürününün geri alınmasına yardımcı o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ile ilgili bütün soruşturma işlemleri ayrıca zanlının suç oluşturan faaliyetlerden haberdar olan veya bunlara katılan başka kişilerle bağlantıları  ve ayrıca kendi lehine ve savunması için oluşturabileceği başka muhtemel senaryoları da kapsamalıdır. Bu kişiler, bize esas zanlının kimliğinin ve bulunduğu yerin belirlenmesi amacıyla bize önemli kanıtlar sağlayabilirl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azen altyapı (elektrik, su, gaz, telefon) abonelik bilgilerinin de suçlunun/suçluların kimliğinin belirlenmesine yardımcı olabileceğini unutmamalıyı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ri tabanları yanı sıra diğer emniyet müdürlükleri tarafından yürütülen eski veya güncel soruşturmalar, zanlının kimliğinin ve yerinin belirlenmesi için incelenebilir.</a:t>
            </a:r>
            <a:r>
              <a:rPr b="0" lang="en-GB" sz="1200" spc="-1" strike="noStrike">
                <a:solidFill>
                  <a:srgbClr val="000000"/>
                </a:solidFill>
                <a:latin typeface="Calibri"/>
              </a:rPr>
              <a:t> </a:t>
            </a:r>
            <a:r>
              <a:rPr b="0" lang="tr-TR" sz="1200" spc="-1" strike="noStrike">
                <a:solidFill>
                  <a:srgbClr val="000000"/>
                </a:solidFill>
                <a:latin typeface="Calibri"/>
              </a:rPr>
              <a:t>Suç ortamının internet üzerinden sağlanan bir hizmet olması halinde hizmet sunucusu da zanlının belirlenmesi konusunda ilave yardımcı bilgilere sahip olabilir.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AFB31-5A05-49FF-B84B-1B4251122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iğer polis birimleri veya makamlarla işbirliği, soruşturmanın yürütülme şekli ile yakından bağlantılıdır ve bu süreçte öngörülen bütün hususları kapsa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işbirliği, aşağıda belirtilen hususların açıklığa kavuşturulması açısından yararlıdı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aylar, kişiler, faaliyet yöntemleri, soruşturmalardaki bağlantılar hakkında bilgi değişimi;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 top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elirli faaliyetlerin gerçekleştirilmesi için lojistik destek sağ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teknik, mali veya diğer konularda uzmanlaşmış yard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şbirliğine dayalı faaliyetler, belirli bir düzene sahip olmalı ve işbirliği protokolleri ve usullerine dayalı olarak soruşturmaya ilişkin öncelikler belirlenmelidi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34A01-0078-480E-9946-98DA1D323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ştirilen faaliyetlerin, elde edilen sonuçların ve belirlenen kanıtların değerlendirilmesi, soruşturma sırasında devam eden bir süreçtir ve aşağıda belirtilen hususlar üzerinde odaklanması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Bu faaliyetlerin nasıl gerçekleştirildiği</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Kararlara ve adımlara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Toplanan kanıtların karar verilmesi için yeterli olup o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Hukuki usullere ve hükümlere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7D9B7-B714-4A2D-96DC-8045AE2C04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bütün hususların soruşturulup soruşturulmadığı</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ilave soruşturma önlemleri için emir veril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suç oluşturan faaliyetin sona erdirilip erdirilmediği ve devam etmesi halinde etkisinin ne olduğ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değerlendirme, aynı zamanda aramalar, tutuklamalar ve sorgulamalara ilişkin süreyi belirle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faaliyetlerin gerçekleştirilme tarihleri ve yöntemi, toplanan kanıtlara, suç oluşturan faaliyetin özelliğine ve zanlıların bulunduğu sınıfa göre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olarak zanlıların suçüstü yakalanmasına ve daha sonra aramaların yapılmasına veya önce belirli zanlıların aranmasına ve tutuklanmasına ve daha sonraki bir aşamada da diğer zanlıların aranmasına ve tutuklanmasına karar verilmesi mümkündü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rarlar, soruşturma ve mağdurlar lehine verilecek ve hukuki hükümler ve usullere uyu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maların yapılması, zanlıların kimliklerinin belirlenmesi ve kanıtlara el konulması ve malvarlığı araması yapılması, bu faaliyetlerin yapılacağı yere, zanlıların kimlikleri ve bunlarla ilgili riskler ve belirlenecek kanıtların ve malvarlığının özelliğine göre bunu yapacak olan kişilerin özel ve ayrı olarak hazırlanmasını gerektir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ukarıda belirtilen faaliyetlere katılacak personelin görevlendirilmesi ve hazırlanması, daha önce belirtilmiş olan hususlara paralel olarak çok önemli bir faaliyet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ava dosyasındaki belgelerin hazırlanması ve zanlıların sorgulanması için personele talimat verilmesinde gerçekleştirilmiş olan bütün soruşturma faaliyetleri, işlenmiş olan suçlar ve sağlanan kanıtlar dikkate alı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B5CCF-7F2A-4CB4-B504-1F550FF2C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sonunda davaya ilişkin bütün olumlu ve olumsuz hususların belirlenmesi için olayın bir değerlendirilmesinin yapılması tavsiye edi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suz hususlar, gelecekte gerçekleştirilen faaliyetlerle ilgili her türlü riskin giderilmesi için bu tür olaylardaki performans, yöntem ve usullerin iyileştirilmesine yardımcı olu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lu hususlar, personelin eğitimi, mağdurlarla işbirliği yöntemleri veya diğer faaliyetler hakkında gelecekte kullanılacak belirli deneyimleri kapsa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ler, öğrenilen hususlar ve en iyi uygulamalar, bölümde veya yetkili kanallar üzerinden diğer bölümlere dağıt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 sırasında karşılaşılan belirli durumlar, bunlara yönelik tepkilerin ve gelecekteki hareket seçeneklerinin değerlendirilmesi için sunulabilir ve tartış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B66C7-6754-40BA-8520-A49351E88C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eğitimde hepiniz soruşturmacısınız ve verilen senaryoyu bugün ve yarın soruşturmanız beklenmektedir. Grup çalışması nedeniyle siz ve yuvarlak masada sizinle birlikte oturan ekip üyelerinizin, olayı soruşturması ve suçluyu/suçluları belirlemeleri öngörü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ncelikle anlamamız gereken hususlardan biri de suç ve bunun işlenme biçimidir. Saldırının sizin açınızdan çok teknik olması veya açık olmaması durumunda suçun ve suç modelinin nasıl gerçekleştiğini anlamak için zaman harcanması her zaman için tavsiye edilmektedir. Verilen senaryoda DDOS (Dağıtık Sistem Reddi) saldırısı, bu tür saldırı hakkında bilgi sahibi olmayanlar için biraz teknik olabilir. DDOS, mağdurun sistemine çok fazla sayıda bilgisayar erişim talebi ile erişmek için gerçekleştirilen bir saldırı türüdür ve mağdurun sistem kaynaklarını bu taleplerle meşgul eder. Bu şekilde meşru ve doğal erişim taleplerine mağdurun sistemi tarafından yanıt verilemez ve erişilemediği düşünülür. DDOS saldırısının teknik yöntemi, bant genişliğine aşırı yükleme yapılmasıdır.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yapmanız gereken işlerden biri de bu saldırının kendi ceza hukukunuzda bir suç oluşturup oluşturmadığının belirlenmesidir. Yanıtınız evet ise bunun ne olduğunu yaz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naryodaki başlıca göreviniz, Humor’un mağdur olmasına yol açan suçlunun kimliğinin belir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pılacak işlere ilişkin bir listenin hazırlanması her zaman çok yardımcı olur. Bir dosya oluşturmak için neyin mevcut olduğu, internetten ve açık kaynaklardan neleri toplayabileceğimiz, internet dışı veri sağlayıcılardan (ISP, banka, elektrik şirketi kayıtları, şirketler, uluslararası yardım) başka hangi verileri istememiz gerektiği) belirlenmelidir. Sınıftaki eğitmenlerin internet dışı veri sağlayıcısı olduğunu varsayın. Bir savcı veya hakim olarak taleplerinizi yazdığınız taktirde (küçük bir not kağıdına), size bazı değerli veriler sağlayabilirler. Taleplerinizden bazıları, olumlu sonuçlanırken diğerleri gerçek yaşamda olduğu gibi olumlu sonuç vermey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tr-TR" sz="1200" spc="-1" strike="noStrike">
                <a:solidFill>
                  <a:srgbClr val="000000"/>
                </a:solidFill>
                <a:latin typeface="Calibri"/>
              </a:rPr>
              <a:t>Bazen ayrıntıların düşünülmesi ve her verinin anlamının kontrol edilmesi yardımcı olurken diğer durumlarda duruma ilişkin genel bir değerlendirme faydalı olabilir. Lütfen aynı zamanda birkaç girişimde bulunun. Bütün bilgileri topladığınızda bunların ne anlam taşıdığını analiz ede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endinizi suçlunun yerine koyarak düşünmek her zaman yararlıdır. Bunu yapabildiğimiz taktirde doğru yerleri kontrol edebilir ve suçun arkasında kimin olduğunu anlayabiliriz.</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Lütfen bunun eğitim olduğunu ve eğitmenlerin bir kuşkunuz veya sorunuz olması halinde size yardımcı olmaya hazır olduklarını unutmay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unun kimliğinin belirlenmesi konusundaki etkin katılımınız ve katkınız takdirle karşılanmaktadı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FEB23-9D24-442F-9C2D-8BAA41647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9C6CA6-8EE8-41BE-964A-85EF8C6F6C0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 yoluyla yetkili makamlara bir bilişim suçu olayı bildirildiğinde yapılacak ilk işlerden biri, bir soruşturma başlatılması için </a:t>
            </a:r>
            <a:r>
              <a:rPr b="0" lang="tr-TR" sz="1200" spc="-1" strike="noStrike" u="sng">
                <a:solidFill>
                  <a:srgbClr val="000000"/>
                </a:solidFill>
                <a:uFillTx/>
                <a:latin typeface="Calibri"/>
              </a:rPr>
              <a:t>gerekli ve yeterli verileri içerip içermediğinin</a:t>
            </a:r>
            <a:r>
              <a:rPr b="0" lang="tr-TR" sz="1200" spc="-1" strike="noStrike">
                <a:solidFill>
                  <a:srgbClr val="000000"/>
                </a:solidFill>
                <a:latin typeface="Calibri"/>
              </a:rPr>
              <a:t> belirlenmesi amacıyla bu şikayetin ince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ir şikayet veya aleni bilgiye (kitle iletişim araçları veya internette mevcut) veya bir suç analizine/bilişim kontrolü sonucuna dayanılarak ya da bir yabancı makamın yardım talebine dayanılarak başlatılacak olması halinde bile soruşturma için en iyi yaklaşımın belirlenmesi amacıyla en başından itibaren bütün gerçekleri çok açık bir şekilde elde etmek büyük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dan şikayetin alınmasından sorumlu olan kişilerin, şikayette hangi bilgilerin bulunması gerektiğini ve soruşturmanın başlatılması için hangi bilgilere gerek duyulduğunu bilmeleri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biçimi ve içeriğine bakmadan önce bildirilen faaliyetlerin suç olarak görülüp görülmediğinin kontrol edilmesi önem taşımaktadır. Çünkü bazı durumlarda gerçekleştirilen eylemler, ulusal mevzuatta suç olarak kabul edilmeyebilir (örneğin ifade özgürlüğü). </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C0297-8405-42A0-B5EE-CC653DF2F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şim suçları olaylarında şikayetin, </a:t>
            </a:r>
            <a:r>
              <a:rPr b="0" lang="tr-TR" sz="1200" spc="-1" strike="noStrike" u="sng">
                <a:solidFill>
                  <a:srgbClr val="000000"/>
                </a:solidFill>
                <a:uFillTx/>
                <a:latin typeface="Calibri"/>
              </a:rPr>
              <a:t>yetkili makamlara</a:t>
            </a:r>
            <a:r>
              <a:rPr b="0" lang="tr-TR" sz="1200" spc="-1" strike="noStrike">
                <a:solidFill>
                  <a:srgbClr val="000000"/>
                </a:solidFill>
                <a:latin typeface="Calibri"/>
              </a:rPr>
              <a:t> hitaben yazılmış olması ve en azından aşağıdaki veri ve bilgileri içermesi gereki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kimlik bilgileri (adres, isim, telefon numarası, yer, email, çevrim içi sistem kimlik numarası, tüzel kişilikler için faaliyet türü)</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dirilen olayların kısa tarifi, meydana geldikleri süre ve nasıl meydana geldikleri, yer, sonuçlar, v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zarar, açıklama ve bunun gerekçesi</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bilgisayar sistemlerinin bulunduğu yer, bunlar hakkında bilgi verebilecek bakımlarından sorumlu teknik kişile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la ilgili olarak mağdur tarafından yapılmış olabilecek soruşturma ve kontrollerin sonuçlar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Arial"/>
              </a:rPr>
              <a:t>Şüpheliler hakkında bilgi ve onlarla olası iletişim</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İletişim araçları ve kaynak</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oluşturan faaliyetin kaynağı, yer, bilgisayar, sunucu, site, v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Para transferi için kullanılmış olan mali araçlar ve transfer yöntemleri</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ı destekleyebilecek veya bunlardan haberdar olan tanıkla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sayılan faaliyetlere ilişkin destekleyici kanıt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487B3-6710-4BD1-87E6-D4831D0EC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e ve içeriğine dayalı olarak ve ekteki belgelerin veya kanıtların incelenmesinden sonra işlenen suçların belirlenmesi önem kazanmaktadır. Suçların özelliğine bağlı olarak emniyette veya savcılıkta olayın soruşturulması için yetkili birim, kullanılacak soruşturma araçları yanı sıra duruma göre belirli uluslar arası işbirliği araçlarının kullanılması gereksinimi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rarın değerinin, bir suçun veya bir nitelikli dolandırıcılığın varlığını  varsaydığı durumlar olabilir ve bu nedenle, suç faaliyetleri ve zararın boyutu arasında bir karşılıklı bağlantı olması gereklidir. Bu gerçek ve gereksinim nedeniyle bilişim suçları birimlerinin, polis birimleri ve diğer ilgili kuruluşlar arasında bir karşılıklı ilişki oluşturmaları gerek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belirlenmesi, olayla ilgili yeni suçların dikkate alınabileceği ve yeni gerçeklerin belirlendiği durumların söz konusu olması nedeniyle bütün soruşturma veya </a:t>
            </a:r>
            <a:r>
              <a:rPr b="0" lang="tr-TR" sz="1200" spc="-1" strike="noStrike">
                <a:solidFill>
                  <a:srgbClr val="000000"/>
                </a:solidFill>
                <a:latin typeface="Arial"/>
              </a:rPr>
              <a:t>kovuşturma</a:t>
            </a:r>
            <a:r>
              <a:rPr b="0" lang="tr-TR" sz="1200" spc="-1" strike="noStrike">
                <a:solidFill>
                  <a:srgbClr val="000000"/>
                </a:solidFill>
                <a:latin typeface="Calibri"/>
              </a:rPr>
              <a:t> sırasında devam eden bir süreç ol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 oluşturan faaliyetlere katılan daha fazla zanlıyı belirlediğimizde bunların her birinin, gerçeklere ve toplanan kanıtlara dayalı olarak değerlendirilmesi gerekir. Her zanlıya ilişkin bütün bilinen belirleyici unsurların sıralanması ve suç grubunun diğer üyelerinden ayrılması, değerlendirme için yardımcı o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aşlangıcında, bazı kişilerin katılımı çok açık olmayabilir ve karar vermek için daha fazla bilgi ve kanıta gerek duy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nıtların toplanmasından ve bütün soruşturma araçlarının dosyada kullanılmasından sonra zanlı/zanlılar tarafından işlenmiş olan suçlar ve bunların durumu (tanık, esas suçlu, suç ortağı, vs.) hakkında karara var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4A7A0-5E70-4087-9966-82CEC6B30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irlenmesi ve toplanması gereken bütün veriler, bilgiler ve kanıtlar, büyük ölçüde mağdurlardan, tanıklardan, polis veri tabanlarından, açık kaynaklardan veya üçüncü taraflardan elde edile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tür verilerin ve kanıtların toplanması ve değerlendirilmesi faaliyeti, bunların elde edilmesi için kullanılacak araçları ve bunların elde edileceği yerler üzerinde odakla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ların amacı, bildirilen gerçeklerin açıklığa kavuşturulmasını, zanlıların ve suç oluşturan faaliyetin gerçekleştiği yerlerin belirlenmesini ve ayrıca zararların özelliği ve değerinin anlaşılmasını amaçl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alındığı anda soruşturma süreci için gerekli verilerin ve bilgilerin belirlenmesi ve bunların elde edilme kanalları ve araçlarının belirlenmesi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anıt toplanma sürecinde önemli hususlardan biri de kanıtları, özellikle de bilgisayarlarından elde edilecek bilgiler gibi dijital kanıtları imha etmeleri olasılığı nedeniyle zanlıyı/zanlıları kuşkulandırm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sırasında atmaya çalıştığınız bütün adımlarda sonucun ne olacağını ve bunun nasıl kullanılacağını değerlendirmeniz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tarafından gerçekleştirilen bütün faaliyetler ve toplayabileceğiniz bütün kanıtlar ve bilgiler, zanlının amacının ve davranışının belirlenmesi amacıyla değerlendiril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veya takibat sırasında gündeme getirilen sorulara en önemli yanıtları en kısa sürede elde etmek amacıyla kanıtların belirlenmesine yönelik faaliyetlerin öncelik sıralamasının yap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E42BC-486F-43BA-89F9-9E1A61703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Şikayetin kaydedildiği anda mağdurla birlikte oluşan durumun ve mağduru, bilgisayar sistemlerini veya diğer ticari malları ve çıkarları etkileyebilecek olası risklerin bir değerlendirilmesi yapı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uç oluşturan faaliyet sırasında mağdurun ticari faaliyeti ve mali çıkarlarına ve ayrıca mağdurun veya başka bir kişinin bilgisayar sistemlerine yönelik belirli tehditlerin bulunması mümkündü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elirlenen risklere karşı koruma sağlamak için gerekli koruma önlemlerini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sistemlerinden söz ederken koruma önlemleri, teknik hususlarla (sunucuların korunması veya yedek kopyalar alınması) ilgili olabilir. Ticari çıkarlar konusunda bir kişinin şahsi veya ticari itibarının korunması ve oluşan maddi zararın sınırlandırılması gerekir. Bu nedenle, belirli unsurların gizliliğin sürdürül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rin özelliğine bağlı olarak soruşturmanın başarılı bir şekilde yürütülmesi ve zanlıların ve kanıtların belirlenmesi için mağdurun zanlı ile temasını sürdürmesine ve belirli bir davranışı sergilemesine ihtiyaç duyabiliriz. Daha fazla kanıt toplanması için mağdurdan zanlı ile temasını sürdürmesi istenirken bütün adımları koordine etmeli ve kararlaştırmalı ve mağdurun yanlış anlamasına ve gayrimeşru faaliyetlerde bulunmasına izin vermemeliy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Risk değerlendirmesi ve risklerin ortadan kaldırılmasına yönelik önlemlerin belirlenmesi sırasında üçüncü kişilerden veya şirketlerden ilave destek istene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nedenle bilişim alanındaki saldırıların değerlendirilmesi için burada kullanılan yazılım uygulamaları ve bilgisayar araçları ile ilgili olarak bilgisayar adli bilim uzmanlarının desteğini talep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elirli verilerin belirlenmesi veya belirli bilgisayar faaliyetlerinin durdurulması için ve bir sitenin kapatılması veya şirketin sunucusunda bulunan yazılımın kaldırılması amacıyla farklı ülkelerde bile olsalar şirketleri sürece dahil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soruşturma boyunca mağdur ve çıkarları konusunda sürekli bir risk değerlendirmesi yapılması ve ayrıca gerektiğinde uygun önlemlerin alınması için mağdurla sürekli temas içinde olunması önem taşımaktadır. </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A452D-44F6-4A5F-AADA-D3FD75C11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lişim suçları olaylarında kanıtlar, sadece dijital değil aynı zamanda belgeler, iletişim, tanık ifadeleri, vs. gibi fiziksel nitelikte olabilir. Kanıtların dijital olması halinde kanıtların nerede olduğunun belirlenmesi ve güvenliğinin sağlanması için olay yeri, sürecin en başında belirlenmelidir. Sanal ortam kanıtlarının sınırlı bir süre muhafaza edildiği ve hızlı bir şekilde belirlenmemesi halinde soruşturmayı olumsuz etkileyebileceği çok iyi bilinen bir husustu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ın toplanabileceği yerlerin belirlenmesinden sonra bunların korunması ve güvenliği için uygun önlemler alınmalıdır. Soruşturmacıların bilgisayarla arama ve elde etme yeri hakkında bilgi edinmeleri çok yardımcı olacaktır. Bu, bilgisayar adli bilim birimlerinin, hangi özel donanım, yazılım ve uzmanların kullanılacağı ve bunların sayısını kararlaştırmalarında çok yardımcı olacakt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 bilişim suçları soruşturmasında dijital kanıtlar, çeşitli yerlerden toplanabilir. Ancak en önemli kaynaklar şöyledir: </a:t>
            </a: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illerin gerçekleştirilmiş olduğu bilgisayar. Ancak bu her zaman, suçlunun kimliğinin belirlendiği anlamını taşımaz;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uygulamalar veya sunucular, suçlunun kimliğinin saklanması için kullanılabilir. Bu nedenle saldırının kaynağının belirlenmesi için gerekli olan verilerin ve bilgilerin ilk aşamadan itibaren toplanması önem taşımakta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Suçun özelliğine bağlı olarak duruma göre saldırıya uğrayan veya gizliliği ihlal edilen bilgisayar sistemi</a:t>
            </a:r>
            <a:r>
              <a:rPr b="0" lang="en-GB"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nucular/bilgisayarlar, derhal ayrılmalı ve başka şekilde daha fazla risk yaratmadıkları taktirde adli bilim uzmanları tarafından incelenmek üzere kapatılmalıdır. Gizliliği ihlal edilmiş sunucularda bulunabilecek bir uygulama, web sayfası, vs.’nin doğru şekilde çalışmasının sağlanması amacıyla bunların, kapatılmaları ve yerlerine güvenlik kopyalarının konulması gerekir. Suç oluşturan faaliyetin belirlenmesinden sonra gizliliği ihlal edilmiş bir sunucunun/bilgisayarın kullanılması tavsiye edilmemektedir. Bir genel virüs nedeniyle saldırının başarılı olması durumunda güvenli kopya da aynı şekilde saldırıya açık olabilir. Bu nedenle güvenli kopyalar, sistemlerin yeniden başlatılmasından önce taktirde incelenmeli ve mümkün olduğu taktirde yama yapılmalı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bilgisayar sistemleri ve uygulamaların değerlendirilmesinin yapılması yoluyla bunların içerdiği bilgilerin bütünlüğü muhafaza ed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Her türlü biçimdeki bilgisayar saldırılarının gerçekleştirilmesi için kullanılan diğer bilgisayar sistemleri</a:t>
            </a: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izmet sağlayıcıları veya üçüncü tarafların dijital kanıtlara sahip olmaları durumunda gerekli verilerin muhafaza edilmesi için derhal kendileri ile temasa geçilmesi gerekir. Hizmet sağlayıcılara muhafaza talebini gönderebilir ve onlardan özellikle bu sistem günlüklerinin ulusal yargı yetkisi dışında bulunması ve elde tutma süresinin sınırlı olması halinde sistem günlüklerini saklamalarını isteyebiliriz. Bazı ülkelerde muhafaza etme talebi, uluslar arası işbirliği bölümünde ayrıntılı olarak açıklanacak 24/7 irtibat görevlilerine gönder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Konu</a:t>
            </a:r>
            <a:r>
              <a:rPr b="0" lang="tr-TR" sz="800" spc="-1" strike="noStrike">
                <a:solidFill>
                  <a:srgbClr val="000000"/>
                </a:solidFill>
                <a:latin typeface="Calibri"/>
              </a:rPr>
              <a:t> dijital kanıtlar </a:t>
            </a:r>
            <a:r>
              <a:rPr b="0" lang="tr-TR" sz="800" spc="-1" strike="noStrike" u="sng">
                <a:solidFill>
                  <a:srgbClr val="000000"/>
                </a:solidFill>
                <a:uFillTx/>
                <a:latin typeface="Calibri"/>
              </a:rPr>
              <a:t>olduğunda</a:t>
            </a:r>
            <a:r>
              <a:rPr b="0" lang="tr-TR" sz="800" spc="-1" strike="noStrike">
                <a:solidFill>
                  <a:srgbClr val="000000"/>
                </a:solidFill>
                <a:latin typeface="Calibri"/>
              </a:rPr>
              <a:t> soruşturmada izlenecek yöntemler hakkındaki karar verme sürecinde bunların gerektiği taktirde başka ülkelerden elde edilmesi için gerekli sürenin göz önünde tutulması büyük önem taşıyacaktır. Aynı zamanda diğer ülkelerden yardım talep etme araçları ve kanalları da belirlen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ç oluşturan faaliyetlerde kullanılan elektronik haberleşme sistemleri, bir soruşturma sırasında önem taşır ve bu nedenle mağdur ve zanlı arasındaki mesajların bunların kaynağının bulunması açısından uygun bir biçimde belirlenmesi ve sunulması gerek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ziksel kanıtlar için normalde bunların, silme veya imha etmeye karşı korunmalarına yönelik bir şart yoktur. Bazı kanıtlar için belirli işlemlere ilişkin bankacılık gizliliği, bunların elde edilmesi için kullanılan araçlar ve statü (polis raporu, savcı veya hakimin onayı) veya sadece uluslararası işbirliği araçları kullanılarak elde edilebilecek olmaları halinde ülke gibi elde etme sürecine ilişkin sınırlandırmalar söz konusu olabil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a ilave olarak fiziksel kanıtların elde edilmesi bazen daha kolay olabilir ve bunların değerlendirilmesi, soruşturma için bazı önemli ipuçları sağlayabilir. </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6A436-6C0E-40BB-ACB9-21B992D75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 ile ilgili olaylarda genellikle kendi bilgisayar sistemlerinin saldırıya uğradığından/gizliliğinin ihlal edildiğinden veya ticari çıkarlarının etkilendiğinden haberdar olmayan mağdurlar vardır. Bilgisayar saldırıları, tek bir suç oluşturan faaliyet sonucunda aynı anda birkaç bilgisayarın/sunucunun gizliliğin ihlal edilmesine neden olabilir ve bu nedenle mağdurların belirlenmesi ve durum hakkında bilgilendirilmeleri ve kendilerine kendi bilgisayarları veya çıkarlarının korunması için bütün önlemleri alma fırsatının tanınması ve aynı zamanda onlardan soruşturma için destekleyici kanıtların elde edilmesi önem kazan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la temasa geçilerek soruşturma hakkında bilgilendirilmeli ve daha sonra onlardan sahip oldukları her türlü bilgi ve kanıtı temin etmeleri istenmelidir. Mağdurlara şikayette bulunma fırsatı da tanınmalıdır. Bütün haberleşmeler, mağdur ve soruşturma için gizliliği sağla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ayrı bir kategori oluşturmaktadır. Suç oluşturan faaliyetlerin kanıtlanması için soruşturma sırasında kullanılacak önemli veri ve kanıtlara sahip olabilecekleri için tanıkları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mümkün olan en kısa süre içinde belirlenmeli ve onlarla temasa geçilmesi bir öncelik olarak değerlendir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la temasa geçilmesi için kullanılan yöntemlerle sahip oldukları veri ve kanıtların talep edilmesinin yolları için geçerli olan hukuki şartlara ve çalışma usullerine göre hareket ed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mağdurlarla işbirliği, mağdurun kaydedilen ilerleme hakkında bilgilendirilmesi, adli usullerin anlatılması ve gerektiğinde yardım yapılması gereksinimine dayalı devam eden bir süreç o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ın, soruşturmanın başında verilmemiş olan veya daha sonra ortaya çıkan soruşturmacıların bilemeyeceği ve kullanamayacağı ilave verileri belirlediği durumlar ola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 ve tanıklarla temas, onların gereksinimleri ve çıkarlarına uygun olmalı ve onların ırkı, dini ve insan hakları göz önünde tutu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A8511-8BEB-42C2-93C3-FEF30AF64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nın soruşturulduğu olaylarda sadece bilgisayar ve internetle ilgili “yeni soruşturma yöntemleri” üzerinde değil aynı zamanda geleneksel yöntemler üzerinde odaklanılması önem taşır ve olaya ilişkin bütün bilgiler, aynı değer verilerek incelen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ifa edilecek soruşturma faaliyetlerinde özellikle şunlar öngörül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suç oluşturan faaliyetin gözlemlenmesi ve durdurulması</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nlıların belirlenmesi ve mahkum edilmeleri, v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rarın telafi edilmesi</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er saldırıda ve suçta yapılması gereken ilk işlerden birinin suçun ve zararların durdurulması olduğu konusunda kuşku yoktur. Bazı durumlarda çok dikkatli bir şekilde inceleme yapmamız ve karar vermemiz gerekebilir ve bu faaliyet, aksinin yapılması daha fazla zarar vermeyecekse soruşturma amaçları için belirli bir süre ertelenebil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olis çalışma usulleri ve yasal hükümlere dayalı olarak gerçekleştirilecek faaliyetlerin öncelik sırası belirlen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Faaliyetlerin ve bunların gerçekleştirilme biçiminin belirlenmesi için savcı, mağdur, tanıklar veya diğer destekleyici bölümler veya kurumların personeline danışılabilir ve kararlar birlikte alınabilir. Mağdurların, durumun özelliği nedeniyle çok duygusal olabileceklerini dikkate almamız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da sürekliliğin sağlanması gerekir. Bu nedenle faaliyetlerin yürütülmesi için karmaşık soruşturmalarda sürekli olarak üyeler arasında iyi ilişkiler sürdüren ve bilgi ve sonuçları paylaşan bir ekip gerek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diğer olaylarla bağlantılar veya başka suç oluşturan faaliyetler ortaya çıkarılabilir ve bu tür durumlarda yetkili bölümlerin bilgilendirilmesi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belirlenen bilgi ve verilerin arasında bağlantı kurulabilmesi için dosyanın hazırlanması ve sonuçların açıklanması için gerekli belgelerin oluşturulması, soruşturmacıların sürekli bir görevi olmalıdı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şka bir önemli husus da bu durumda verilerin ve kanıtların toplanılması yöntemi ve ayrıca bunların nasıl muhafaza edildiği ve kullanıldığı ile ilgilidir. Bu amaçla bütün yasal hükümlere ve usulleri uyulması ve kanıtların, doğru ve güvenli bir şekilde muhafaza edilmesi gerekir. </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3028E-A849-41D9-94D7-33A75E18A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19325-A983-456B-ADFC-55ECF5874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8FE90-91A7-408C-95E4-5FCCC6F2B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475BA-0BAE-4913-A6C0-2D3A5CA78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D7421-49C8-4B5E-826B-EE8404D0D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8412-35A1-44A4-95CE-9390575CD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333BC-7075-4011-8028-66B60077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6AE9A-6892-45B8-B97E-6C216FB84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800D8-9D27-4DA6-9464-76B5713D0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10B8-5D39-441F-BDA6-93829E318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AB0C-A16E-403B-B1E1-B5042BB75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1902F-CF7F-4A9F-9FB3-88B1A2EFC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F8417-F9E9-4790-9A29-A4A6AC57B5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AFB2A-7AE3-4380-B06A-0447527925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Soruşturma planı</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8. </a:t>
            </a:r>
            <a:r>
              <a:rPr b="1" lang="ro-RO" sz="4000" spc="-1" strike="noStrike">
                <a:solidFill>
                  <a:srgbClr val="000000"/>
                </a:solidFill>
                <a:latin typeface="Calibri"/>
              </a:rPr>
              <a:t>Poli</a:t>
            </a:r>
            <a:r>
              <a:rPr b="1" lang="tr-TR" sz="4000" spc="-1" strike="noStrike">
                <a:solidFill>
                  <a:srgbClr val="000000"/>
                </a:solidFill>
                <a:latin typeface="Calibri"/>
              </a:rPr>
              <a:t>s-savcı işbirliği </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osyanın ve alınan önlemlerin savcıya sunul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rtak soruşturma faaliyetler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birliği, özellikle şunlarla ilgilidi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işlenmiş olan suçları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ruşturma önlemlerini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nuçların değerlendirilmesi ve aramalar ve zanlıların tutuklanması ve sorgulanması hakkında karar veri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a:t>
            </a:r>
            <a:r>
              <a:rPr b="0" lang="en-US" sz="4400" spc="-1" strike="noStrike">
                <a:solidFill>
                  <a:srgbClr val="000000"/>
                </a:solidFill>
                <a:latin typeface="Calibri"/>
              </a:rPr>
              <a:t> </a:t>
            </a:r>
            <a:r>
              <a:rPr b="1" lang="tr-TR" sz="4000" spc="-1" strike="noStrike">
                <a:solidFill>
                  <a:srgbClr val="000000"/>
                </a:solidFill>
                <a:latin typeface="Calibri"/>
              </a:rPr>
              <a:t>Zanlıların belirlenmesi</a:t>
            </a:r>
            <a:endParaRPr b="0" lang="en-US" sz="40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ların kimliğinin ve yerlerinin belirlenmes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nın kullandığı diğer adresler</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işlenmesi için kullanılan bilgisayarın yeri</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ullanılan </a:t>
            </a:r>
            <a:r>
              <a:rPr b="0" lang="en-GB" sz="2700" spc="-1" strike="noStrike">
                <a:solidFill>
                  <a:srgbClr val="000000"/>
                </a:solidFill>
                <a:latin typeface="Calibri"/>
              </a:rPr>
              <a:t>internet </a:t>
            </a:r>
            <a:r>
              <a:rPr b="0" lang="tr-TR" sz="2700" spc="-1" strike="noStrike">
                <a:solidFill>
                  <a:srgbClr val="000000"/>
                </a:solidFill>
                <a:latin typeface="Calibri"/>
              </a:rPr>
              <a:t>bağlantısı</a:t>
            </a:r>
            <a:r>
              <a:rPr b="0" lang="en-GB" sz="2700" spc="-1" strike="noStrike">
                <a:solidFill>
                  <a:srgbClr val="000000"/>
                </a:solidFill>
                <a:latin typeface="Calibri"/>
              </a:rPr>
              <a:t> (</a:t>
            </a:r>
            <a:r>
              <a:rPr b="0" lang="tr-TR" sz="2700" spc="-1" strike="noStrike">
                <a:solidFill>
                  <a:srgbClr val="000000"/>
                </a:solidFill>
                <a:latin typeface="Calibri"/>
              </a:rPr>
              <a:t>kablolu</a:t>
            </a:r>
            <a:r>
              <a:rPr b="0" lang="en-GB" sz="2700" spc="-1" strike="noStrike">
                <a:solidFill>
                  <a:srgbClr val="000000"/>
                </a:solidFill>
                <a:latin typeface="Calibri"/>
              </a:rPr>
              <a:t>, </a:t>
            </a:r>
            <a:r>
              <a:rPr b="0" lang="tr-TR" sz="2700" spc="-1" strike="noStrike">
                <a:solidFill>
                  <a:srgbClr val="000000"/>
                </a:solidFill>
                <a:latin typeface="Calibri"/>
              </a:rPr>
              <a:t>kablosuz</a:t>
            </a:r>
            <a:r>
              <a:rPr b="0" lang="en-GB" sz="2700" spc="-1" strike="noStrike">
                <a:solidFill>
                  <a:srgbClr val="000000"/>
                </a:solidFill>
                <a:latin typeface="Calibri"/>
              </a:rPr>
              <a:t>, ISP, </a:t>
            </a:r>
            <a:r>
              <a:rPr b="0" lang="tr-TR" sz="2700" spc="-1" strike="noStrike">
                <a:solidFill>
                  <a:srgbClr val="000000"/>
                </a:solidFill>
                <a:latin typeface="Calibri"/>
              </a:rPr>
              <a:t>vs.</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oluşturan faaliyetler hakkında bilgi ve katılım</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Diğer zanlılarla işbirliği ve onların katılımı</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li soruşturm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Altyapı hizmetleri abone bilgiler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aşka zanlı veya başka suç soruşturmaları ile bağlantıla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Polis veri tabanları ve internet, bir bilgi kaynağı olarak kullanılabili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tr-TR" sz="4000" spc="-1" strike="noStrike">
                <a:solidFill>
                  <a:srgbClr val="000000"/>
                </a:solidFill>
                <a:latin typeface="Calibri"/>
              </a:rPr>
              <a:t>Diğer makamlarla işbirliği</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işbirliği, aşağıda belirtilen konular üzerinde odaklanmalıdı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olaylar, kişiler, faaliyet yöntemleri, soruşturmalardaki bağlantılar hakkında bilgi değişim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veri ve kanıt top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belirli faaliyetlerin gerçekleştirilmesi için lojistik destek sağ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teknik, mali veya diğer konularda uzmanlaşmış yardı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1. </a:t>
            </a:r>
            <a:r>
              <a:rPr b="1" lang="tr-TR" sz="4000" spc="-1" strike="noStrike">
                <a:solidFill>
                  <a:srgbClr val="000000"/>
                </a:solidFill>
                <a:latin typeface="Calibri"/>
              </a:rPr>
              <a:t>Faaliyetlerin değerlendirilmesi ve arama, tutuklama ve sorgulamaların yapılması </a:t>
            </a:r>
            <a:br>
              <a:rPr sz="4000"/>
            </a:br>
            <a:endParaRPr b="0" lang="en-US" sz="40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eğerlendirme süreci, şunları kapsamalıdı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faaliyetlerin nasıl yürütüldüğ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kararlara ve adımlara uyulup uyu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toplanan kanıtların karar verilmesi için yeterli olup o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hukuki usuller ve hükümlere uyulup uyulmadığ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bütün hususların soruşturulup soruşturulmadığ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ilave soruşturma önlemleri için emir ver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suç oluşturan faaliyetin sona erdirilip erdirilmediği ve devam etmesi halinde etkisinin ne olduğ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ukuki hükümlere ve usullere uygun hareket ed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Faaliyetlerin yürütülmesi için kişi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ava dosyasından belge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2. </a:t>
            </a:r>
            <a:r>
              <a:rPr b="1" lang="tr-TR" sz="4000" spc="-1" strike="noStrike">
                <a:solidFill>
                  <a:srgbClr val="000000"/>
                </a:solidFill>
                <a:latin typeface="Calibri"/>
              </a:rPr>
              <a:t>Çıkarılan dersler ve uygulamaların belirlenmesi ve bunların dağıtımı için soruşturmanın değerlendirilmesi </a:t>
            </a:r>
            <a:br>
              <a:rPr sz="4000"/>
            </a:br>
            <a:endParaRPr b="0" lang="en-US" sz="40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avanın değerlendirilme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lu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suz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Öğrenilen uygulamaların ve en iyi uygulamaların dağıtım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Kurs Senaryo İpuçları</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DDOS saldırısı, temel unsurlar açısından açık mıdır</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iz, bugün ve yarın soruşturma yapması öngörülen soruşturmacısınız</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ir veya iki kişi gruptaki soruşturmaya liderlik yap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Yerel ceza hukukunuzdaki suç türünü tanımlay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 tür bir suç için hangi yasa yetkilerinin kullanılabileceğini belirtin</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Neyi bildiğinizi ve neyin eksik olduğunu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İnternetten ve internet dışında hangi tür verileri elde edebileceğinizi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radaki eğitimciler, veri sağlayıcısı ve mağdurdur. İstendiği taktirde veri sağlayabilirler (küçük not kağıdını kullan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ütün çabalar, olumlu yanıt veya veri alınmasını sağlamay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rıntılı olarak düşünün ve bütün süreç hakkında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nı anda bir çok çaba göster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Kendinizi suçlunun yerine koyarak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uçlunun / suçluların kimliğini belirley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Grubunuzda kimlik belirleme konusundaki etkin katılımınız takdir edilmekted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soruşturma başlatılması için yeterli veri bulun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dirilen gerçeklerin, suç olarak görü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Yetkili makama hitaben yazılmalıdı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ikayetin içeriği</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tr-TR" sz="4000" spc="-1" strike="noStrike">
                <a:solidFill>
                  <a:srgbClr val="000000"/>
                </a:solidFill>
                <a:latin typeface="Calibri"/>
              </a:rPr>
              <a:t>Şikayetin alınması ve değerlendirilmes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Şikayetin içeriği</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kimlik bilgi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Bildirilen olayların kısa tarif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rar, açıklama ve bunun gerekç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bilgisayar sistemlerinin bulunduğu yer, bunlar hakkında bilgi verebilecek bakımlarından sorumlu teknik kişi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 tarafından yapılmış olan doğrulamalar ve kontro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nlılar hakkında bilgiler ve bunlarla olası iletişi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etişim araçları ve kayn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in kaynağ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gili mali araç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tanık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estekleyici kanıtlar</a:t>
            </a:r>
            <a:endParaRPr b="0" lang="en-US" sz="2200" spc="-1" strike="noStrike">
              <a:solidFill>
                <a:srgbClr val="000000"/>
              </a:solidFill>
              <a:latin typeface="Calibri"/>
            </a:endParaRPr>
          </a:p>
          <a:p>
            <a:pPr marL="343080" indent="-3430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tr-TR" sz="4000" spc="-1" strike="noStrike">
                <a:solidFill>
                  <a:srgbClr val="000000"/>
                </a:solidFill>
                <a:latin typeface="Calibri"/>
              </a:rPr>
              <a:t>Suçların belirlenmesi</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yapacak yetkili organ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nıt toplama yönteml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ldirilen faaliyetler ve zararın boyutu arasındaki karşılıklı iliş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3</a:t>
            </a:r>
            <a:r>
              <a:rPr b="1" lang="en-US" sz="4000" spc="-1" strike="noStrike">
                <a:solidFill>
                  <a:srgbClr val="000000"/>
                </a:solidFill>
                <a:latin typeface="Calibri"/>
              </a:rPr>
              <a:t>. </a:t>
            </a:r>
            <a:r>
              <a:rPr b="1" lang="tr-TR" sz="4000" spc="-1" strike="noStrike">
                <a:solidFill>
                  <a:srgbClr val="000000"/>
                </a:solidFill>
                <a:latin typeface="Calibri"/>
              </a:rPr>
              <a:t>Kanıtların, bilgilerin ve istihbaratın toplanması ve değerlendirilmesi </a:t>
            </a:r>
            <a:br>
              <a:rPr sz="4000"/>
            </a:br>
            <a:endParaRPr b="0" lang="en-US" sz="40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mağdurlar, tanıklar, polis veri tabanları, açık kaynaklar veya üçüncü taraf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Araçlar ve y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edef</a:t>
            </a:r>
            <a:r>
              <a:rPr b="0" lang="en-US" sz="3000" spc="-1" strike="noStrike">
                <a:solidFill>
                  <a:srgbClr val="000000"/>
                </a:solidFill>
                <a:latin typeface="Calibri"/>
              </a:rPr>
              <a:t>: </a:t>
            </a:r>
            <a:r>
              <a:rPr b="0" lang="tr-TR" sz="3000" spc="-1" strike="noStrike">
                <a:solidFill>
                  <a:srgbClr val="000000"/>
                </a:solidFill>
                <a:latin typeface="Calibri"/>
              </a:rPr>
              <a:t>bildirilen gerçeklerin açıklığa kavuşturulması, zanlıların ve suç oluşturan faaliyetin gerçekleştiği yerlerin, zararların özelliği ve değerinin belirlenmes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1" lang="tr-TR" sz="4000" spc="-1" strike="noStrike">
                <a:solidFill>
                  <a:srgbClr val="000000"/>
                </a:solidFill>
                <a:latin typeface="Calibri"/>
              </a:rPr>
              <a:t>Bir risk değerlendirmesi yapılması ve ilave destek gereksiniminin belirlenmesi</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la birlikte yapılı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Olası riskler</a:t>
            </a:r>
            <a:r>
              <a:rPr b="0" lang="en-US" sz="2700" spc="-1" strike="noStrike">
                <a:solidFill>
                  <a:srgbClr val="000000"/>
                </a:solidFill>
                <a:latin typeface="Calibri"/>
              </a:rPr>
              <a:t>: </a:t>
            </a:r>
            <a:r>
              <a:rPr b="0" lang="tr-TR" sz="2700" spc="-1" strike="noStrike">
                <a:solidFill>
                  <a:srgbClr val="000000"/>
                </a:solidFill>
                <a:latin typeface="Calibri"/>
              </a:rPr>
              <a:t>mağduru, bilgisayar sistemlerini veya diğer ticari malları ve çıkarları etkileye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oruma önlemlerinin belirlen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un zanlı ile temasını sürdür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ir bilgisayar adli bilim uzmanı veya bir üçüncü tarafın desteğ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ürekli risk değerlendirmesi ve mağdurla temasın sürdürül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tr-TR" sz="4000" spc="-1" strike="noStrike">
                <a:solidFill>
                  <a:srgbClr val="000000"/>
                </a:solidFill>
                <a:latin typeface="Calibri"/>
              </a:rPr>
              <a:t>Olay yerinin korunması ve kanıtların muhafaza edilmesi</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ve maddi kanıt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000000"/>
                </a:solidFill>
                <a:latin typeface="Calibri"/>
              </a:rPr>
              <a:t>Di</a:t>
            </a:r>
            <a:r>
              <a:rPr b="0" lang="tr-TR" sz="3000" spc="-1" strike="noStrike">
                <a:solidFill>
                  <a:srgbClr val="000000"/>
                </a:solidFill>
                <a:latin typeface="Calibri"/>
              </a:rPr>
              <a:t>jital kanıtlar, sınırlı bir süre muhafaza edili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kanıtların toplanma önlemleri ve y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suç oluşturan faaliyetler için kullanılan bilgisayar/sunucu, mağdurun bilgisayarı, başka bilgisayar/sunuc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uhafaza etme taleb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letişim mesajlar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87280" y="274680"/>
            <a:ext cx="86868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1" lang="tr-TR" sz="4000" spc="-1" strike="noStrike">
                <a:solidFill>
                  <a:srgbClr val="000000"/>
                </a:solidFill>
                <a:latin typeface="Calibri"/>
              </a:rPr>
              <a:t>Mağdur(lar) ve tanıkların belirlenmesi ve onlarla işbirliği yapılması </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lave mağdur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unulan başvurular ve bilgi ve kanıt temin edil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lar, önemli bir rol oynayabil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 ve tanıklarla ilgili yasal şartlar ve usu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la işbirliği, devam eden bir süreç olmalı, geri bildirim ve yardım sağlamalıd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6000" y="274680"/>
            <a:ext cx="86868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7</a:t>
            </a:r>
            <a:r>
              <a:rPr b="1" lang="en-US" sz="4000" spc="-1" strike="noStrike">
                <a:solidFill>
                  <a:srgbClr val="000000"/>
                </a:solidFill>
                <a:latin typeface="Calibri"/>
              </a:rPr>
              <a:t>. </a:t>
            </a:r>
            <a:r>
              <a:rPr b="1" lang="tr-TR" sz="4000" spc="-1" strike="noStrike">
                <a:solidFill>
                  <a:srgbClr val="000000"/>
                </a:solidFill>
                <a:latin typeface="Calibri"/>
              </a:rPr>
              <a:t>Atılacak adımlar ve gerçekleştirilecek faaliyetlerin belirlenmesi </a:t>
            </a:r>
            <a:br>
              <a:rPr sz="4000"/>
            </a:br>
            <a:endParaRPr b="0" lang="en-US" sz="40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Şu hususlar üzerinde odaklanmamız gerekir</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adece yeni yöntemler değil aynı zamanda geleneksel yöntem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uç oluşturan faaliyetin gözlemlenmesi ve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nlıların belirlenmesi ve mahkum edilme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rarın telafi edilm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lerin ve zararların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Faaliyetlerin öncelik sırasına kon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oruşturma eki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olaylarla bağlantı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bölümlerle işbirliğ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ava dosyasının hazırlanması</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9:52Z</dcterms:modified>
  <cp:revision>96</cp:revision>
  <dc:subject>ERENOGLU CONSULTANCY, TRANSLATION AND FOREIGN TRADE LTD CO.</dc:subject>
  <dc:title>ERENOĞLU DANIŞMANLIK TERCÜMANLIK VE DIŞ TİCARET LTD. ŞTİ.</dc:title>
</cp:coreProperties>
</file>